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04560" y="22860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5257800" y="22860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06668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304560" y="8685000"/>
            <a:ext cx="48006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5257800" y="8685000"/>
            <a:ext cx="137160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1A55A070-8CFC-412B-A0AA-F0047E37383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49200" y="7620120"/>
            <a:ext cx="412920" cy="80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06668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7FC80-99D4-4853-A2E2-CBF14372F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05BCA-58B5-48BC-B7BA-5DB531E6AE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72B6F-F645-4241-AB7E-A372E38F3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F76B-2688-4099-A0F5-A9830FA52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89614-3CD5-4549-8AD4-FB36DCF6F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C9B9-96BD-46A5-B3D1-9B205025F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6E22-F623-4B93-AB18-A99E81BDC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3E16-BD43-42B3-AB05-1388A74A7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FE5BA-CB35-47B7-8DAD-7495A24613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EC3C-7C1C-4BF8-89B6-6F9546DA6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D4DA6-72AA-471F-8865-BD1AE0412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57D0A-D219-44D7-A140-13A24ECF4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5120" y="0"/>
            <a:ext cx="8408880" cy="134136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22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220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spcBef>
                <a:spcPts val="220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244520" indent="-203040">
              <a:spcBef>
                <a:spcPts val="220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5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6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32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3131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8618-C87D-47E2-8105-AE580A900F58}" type="slidenum">
              <a:rPr b="0" lang="en-US" sz="1400" spc="-1" strike="noStrike">
                <a:solidFill>
                  <a:srgbClr val="13131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13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1268280"/>
            <a:ext cx="7524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7480" y="1268280"/>
            <a:ext cx="846360" cy="165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14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291960" algn="ctr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571680" algn="ctr"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041480" algn="ctr">
              <a:spcBef>
                <a:spcPts val="55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5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6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1313"/>
                </a:solidFill>
                <a:latin typeface="Arial"/>
              </a:rPr>
              <a:t>Redefining the Library </a:t>
            </a:r>
            <a:br>
              <a:rPr sz="2800"/>
            </a:br>
            <a:r>
              <a:rPr b="1" lang="en-US" sz="2800" spc="-1" strike="noStrike">
                <a:solidFill>
                  <a:srgbClr val="131313"/>
                </a:solidFill>
                <a:latin typeface="Arial"/>
              </a:rPr>
              <a:t>for the 21</a:t>
            </a:r>
            <a:r>
              <a:rPr b="1" lang="en-US" sz="2800" spc="-1" strike="noStrike" baseline="30000">
                <a:solidFill>
                  <a:srgbClr val="131313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131313"/>
                </a:solidFill>
                <a:latin typeface="Arial"/>
              </a:rPr>
              <a:t> century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0560" y="3429000"/>
            <a:ext cx="663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Lynne Brindle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hief Executive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e British Library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34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131313"/>
                </a:solidFill>
                <a:latin typeface="Arial"/>
              </a:rPr>
              <a:t>Challenges and opportunities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50920" y="1484280"/>
            <a:ext cx="8568720" cy="4966920"/>
            <a:chOff x="250920" y="1484280"/>
            <a:chExt cx="8568720" cy="496692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256840" y="1756800"/>
              <a:ext cx="4559040" cy="442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50920" y="1484280"/>
              <a:ext cx="2643120" cy="2618280"/>
            </a:xfrm>
            <a:prstGeom prst="ellipse">
              <a:avLst/>
            </a:prstGeom>
            <a:solidFill>
              <a:srgbClr val="b9aacd"/>
            </a:solidFill>
            <a:ln w="6480">
              <a:solidFill>
                <a:srgbClr val="1313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buClr>
                  <a:srgbClr val="13131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1313"/>
                  </a:solidFill>
                  <a:latin typeface="Arial"/>
                </a:rPr>
                <a:t>Competition</a:t>
              </a:r>
              <a:endParaRPr b="0" lang="en-US" sz="1800" spc="-1" strike="noStrike">
                <a:solidFill>
                  <a:srgbClr val="13131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13131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1313"/>
                  </a:solidFill>
                  <a:latin typeface="Arial"/>
                </a:rPr>
                <a:t>Changing users</a:t>
              </a:r>
              <a:endParaRPr b="0" lang="en-US" sz="1800" spc="-1" strike="noStrike">
                <a:solidFill>
                  <a:srgbClr val="13131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13131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1313"/>
                  </a:solidFill>
                  <a:latin typeface="Arial"/>
                </a:rPr>
                <a:t>Outdated IP law</a:t>
              </a:r>
              <a:endParaRPr b="0" lang="en-US" sz="1800" spc="-1" strike="noStrike">
                <a:solidFill>
                  <a:srgbClr val="13131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13131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1313"/>
                  </a:solidFill>
                  <a:latin typeface="Arial"/>
                </a:rPr>
                <a:t>Digital divide</a:t>
              </a:r>
              <a:endParaRPr b="0" lang="en-US" sz="1800" spc="-1" strike="noStrike">
                <a:solidFill>
                  <a:srgbClr val="13131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13131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1313"/>
                  </a:solidFill>
                  <a:latin typeface="Arial"/>
                </a:rPr>
                <a:t>Preservation</a:t>
              </a:r>
              <a:endParaRPr b="0" lang="en-US" sz="1800" spc="-1" strike="noStrike">
                <a:solidFill>
                  <a:srgbClr val="13131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76520" y="3832200"/>
              <a:ext cx="2643120" cy="2619000"/>
            </a:xfrm>
            <a:prstGeom prst="ellipse">
              <a:avLst/>
            </a:prstGeom>
            <a:solidFill>
              <a:srgbClr val="b9aacd"/>
            </a:solidFill>
            <a:ln w="6480">
              <a:solidFill>
                <a:srgbClr val="1313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buClr>
                  <a:srgbClr val="13131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1313"/>
                  </a:solidFill>
                  <a:latin typeface="Arial"/>
                </a:rPr>
                <a:t>Widen access</a:t>
              </a:r>
              <a:endParaRPr b="0" lang="en-US" sz="1800" spc="-1" strike="noStrike">
                <a:solidFill>
                  <a:srgbClr val="13131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13131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1313"/>
                  </a:solidFill>
                  <a:latin typeface="Arial"/>
                </a:rPr>
                <a:t>More material</a:t>
              </a:r>
              <a:endParaRPr b="0" lang="en-US" sz="1800" spc="-1" strike="noStrike">
                <a:solidFill>
                  <a:srgbClr val="13131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13131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1313"/>
                  </a:solidFill>
                  <a:latin typeface="Arial"/>
                </a:rPr>
                <a:t>Qualitative analysis</a:t>
              </a:r>
              <a:endParaRPr b="0" lang="en-US" sz="1800" spc="-1" strike="noStrike">
                <a:solidFill>
                  <a:srgbClr val="13131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13131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1313"/>
                  </a:solidFill>
                  <a:latin typeface="Arial"/>
                </a:rPr>
                <a:t>Scholarship</a:t>
              </a:r>
              <a:endParaRPr b="0" lang="en-US" sz="1800" spc="-1" strike="noStrike">
                <a:solidFill>
                  <a:srgbClr val="13131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13131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31313"/>
                  </a:solidFill>
                  <a:latin typeface="Arial"/>
                </a:rPr>
                <a:t>Open up</a:t>
              </a:r>
              <a:endParaRPr b="0" lang="en-US" sz="1800" spc="-1" strike="noStrike">
                <a:solidFill>
                  <a:srgbClr val="131313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7480" y="3425760"/>
              <a:ext cx="6017400" cy="1083240"/>
            </a:xfrm>
            <a:prstGeom prst="leftRightArrow">
              <a:avLst>
                <a:gd name="adj1" fmla="val 50000"/>
                <a:gd name="adj2" fmla="val 110586"/>
              </a:avLst>
            </a:prstGeom>
            <a:solidFill>
              <a:srgbClr val="000000"/>
            </a:solidFill>
            <a:ln w="6480">
              <a:solidFill>
                <a:srgbClr val="1313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Arial"/>
                </a:rPr>
                <a:t>st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 century library</a:t>
              </a:r>
              <a:endParaRPr b="0" lang="en-US" sz="2200" spc="-1" strike="noStrike">
                <a:solidFill>
                  <a:srgbClr val="131313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738A-652F-4334-A563-595C4CEBB2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08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31313"/>
                </a:solidFill>
                <a:latin typeface="Arial"/>
              </a:rPr>
              <a:t>1. Understanding our users and keeping close them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34120" y="3097080"/>
            <a:ext cx="919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71920" y="2006640"/>
            <a:ext cx="83844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78600" y="2492280"/>
            <a:ext cx="1190880" cy="23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11400" y="2494080"/>
            <a:ext cx="1573200" cy="2760480"/>
          </a:xfrm>
          <a:prstGeom prst="rect">
            <a:avLst/>
          </a:prstGeom>
          <a:noFill/>
          <a:ln w="0">
            <a:solidFill>
              <a:srgbClr val="fffff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2880" y="1557360"/>
            <a:ext cx="2003400" cy="12128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dustries</a:t>
            </a:r>
            <a:endParaRPr b="0" lang="en-US" sz="1800" spc="-1" strike="noStrike">
              <a:solidFill>
                <a:srgbClr val="131313"/>
              </a:solidFill>
              <a:latin typeface="Times New Roman"/>
            </a:endParaRPr>
          </a:p>
          <a:p>
            <a:pPr lvl="1" marL="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reative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 lvl="1" marL="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ublishing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 lvl="1" marL="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MEs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 lvl="1" marL="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&amp;D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67360" y="1585800"/>
            <a:ext cx="1736640" cy="11750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K Library Network</a:t>
            </a:r>
            <a:endParaRPr b="0" lang="en-US" sz="18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67280" y="5234040"/>
            <a:ext cx="1900080" cy="1054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Young Learners</a:t>
            </a:r>
            <a:endParaRPr b="0" lang="en-US" sz="1800" spc="-1" strike="noStrike">
              <a:solidFill>
                <a:srgbClr val="131313"/>
              </a:solidFill>
              <a:latin typeface="Times New Roman"/>
            </a:endParaRPr>
          </a:p>
          <a:p>
            <a:pPr lvl="1" marL="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chool Students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21600" y="5229360"/>
            <a:ext cx="1755720" cy="1069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131313"/>
              </a:solidFill>
              <a:latin typeface="Times New Roman"/>
            </a:endParaRPr>
          </a:p>
          <a:p>
            <a:pPr lvl="1" marL="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1800" spc="-1" strike="noStrike">
              <a:solidFill>
                <a:srgbClr val="131313"/>
              </a:solidFill>
              <a:latin typeface="Times New Roman"/>
            </a:endParaRPr>
          </a:p>
          <a:p>
            <a:pPr lvl="1" marL="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ife-long Learners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 lvl="1" marL="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02320" y="3033720"/>
            <a:ext cx="1638360" cy="2190600"/>
          </a:xfrm>
          <a:prstGeom prst="rect">
            <a:avLst/>
          </a:prstGeom>
          <a:noFill/>
          <a:ln w="0">
            <a:solidFill>
              <a:srgbClr val="fffff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360" y="5227560"/>
            <a:ext cx="2003400" cy="1054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searchers</a:t>
            </a:r>
            <a:endParaRPr b="0" lang="en-US" sz="1800" spc="-1" strike="noStrike">
              <a:solidFill>
                <a:srgbClr val="131313"/>
              </a:solidFill>
              <a:latin typeface="Times New Roman"/>
            </a:endParaRPr>
          </a:p>
          <a:p>
            <a:pPr lvl="1" marL="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cholars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 lvl="1" marL="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University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 lvl="1" marL="7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ifelong Learners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3120" y="1844640"/>
            <a:ext cx="1478160" cy="3156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22640" y="2997360"/>
            <a:ext cx="1778040" cy="3263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427640" y="1989000"/>
            <a:ext cx="1039680" cy="2799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940360" y="3068640"/>
            <a:ext cx="1395360" cy="3225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7628040" y="2276640"/>
            <a:ext cx="1322280" cy="281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75035-E2B8-46EA-A3E1-265C18B1C71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1313"/>
                </a:solidFill>
                <a:latin typeface="Arial"/>
              </a:rPr>
              <a:t>2. Rethink the physical space and create a desirable ‘draw’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1294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2801"/>
              </a:spcBef>
              <a:buClr>
                <a:srgbClr val="c617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31313"/>
                </a:solidFill>
                <a:latin typeface="Arial"/>
              </a:rPr>
              <a:t>Libraries should be cultural, social and intellectual spaces</a:t>
            </a:r>
            <a:endParaRPr b="0" lang="en-US" sz="2800" spc="-1" strike="noStrike">
              <a:solidFill>
                <a:srgbClr val="131313"/>
              </a:solidFill>
              <a:latin typeface="Arial"/>
            </a:endParaRPr>
          </a:p>
          <a:p>
            <a:pPr>
              <a:spcBef>
                <a:spcPts val="2801"/>
              </a:spcBef>
              <a:buClr>
                <a:srgbClr val="c617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1313"/>
                </a:solidFill>
                <a:latin typeface="Arial"/>
              </a:rPr>
              <a:t>We should draw upon innovations in library design and learn from developments in other areas</a:t>
            </a:r>
            <a:endParaRPr b="0" lang="en-US" sz="2800" spc="-1" strike="noStrike">
              <a:solidFill>
                <a:srgbClr val="131313"/>
              </a:solidFill>
              <a:latin typeface="Arial"/>
            </a:endParaRPr>
          </a:p>
          <a:p>
            <a:pPr>
              <a:spcBef>
                <a:spcPts val="2801"/>
              </a:spcBef>
              <a:buClr>
                <a:srgbClr val="c617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1313"/>
                </a:solidFill>
                <a:latin typeface="Arial"/>
              </a:rPr>
              <a:t>We should shape the space to fit the different needs of our different users</a:t>
            </a:r>
            <a:endParaRPr b="0" lang="en-US" sz="2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0EBE-763A-4315-B5CC-845C102FA1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1313"/>
                </a:solidFill>
                <a:latin typeface="Arial"/>
              </a:rPr>
              <a:t>3. Embrace the new technologies and invest in innovation and digital activities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401"/>
              </a:spcBef>
              <a:buClr>
                <a:srgbClr val="c617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313"/>
                </a:solidFill>
                <a:latin typeface="Arial"/>
              </a:rPr>
              <a:t>To widen access to our collections including our legacy items</a:t>
            </a:r>
            <a:endParaRPr b="0" lang="en-US" sz="2400" spc="-1" strike="noStrike">
              <a:solidFill>
                <a:srgbClr val="13131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buClr>
                <a:srgbClr val="c617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313"/>
                </a:solidFill>
                <a:latin typeface="Arial"/>
              </a:rPr>
              <a:t>To develop new forms of scholarship</a:t>
            </a:r>
            <a:endParaRPr b="0" lang="en-US" sz="2400" spc="-1" strike="noStrike">
              <a:solidFill>
                <a:srgbClr val="13131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buClr>
                <a:srgbClr val="c617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313"/>
                </a:solidFill>
                <a:latin typeface="Arial"/>
              </a:rPr>
              <a:t>To promote e-learning and access to knowledge via the internet</a:t>
            </a:r>
            <a:endParaRPr b="0" lang="en-US" sz="2400" spc="-1" strike="noStrike">
              <a:solidFill>
                <a:srgbClr val="13131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buClr>
                <a:srgbClr val="c617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313"/>
                </a:solidFill>
                <a:latin typeface="Arial"/>
              </a:rPr>
              <a:t>To form new partnerships and learn from each other</a:t>
            </a:r>
            <a:endParaRPr b="0" lang="en-US" sz="2400" spc="-1" strike="noStrike">
              <a:solidFill>
                <a:srgbClr val="13131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01"/>
              </a:spcBef>
              <a:buClr>
                <a:srgbClr val="c6172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1313"/>
                </a:solidFill>
                <a:latin typeface="Arial"/>
              </a:rPr>
              <a:t>To preserve and curate the output of the digital age</a:t>
            </a:r>
            <a:endParaRPr b="0" lang="en-US" sz="24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1313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63F1-4151-452A-A6ED-EB8C12F33E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1313"/>
                </a:solidFill>
                <a:latin typeface="Arial"/>
              </a:rPr>
              <a:t>4. Speaking out on a wider stage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1700280"/>
            <a:ext cx="2519280" cy="129708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87" y="0"/>
                </a:lnTo>
                <a:lnTo>
                  <a:pt x="21600" y="10800"/>
                </a:lnTo>
                <a:lnTo>
                  <a:pt x="186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Promoting and redefining the quality library brand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1413000"/>
            <a:ext cx="4392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131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Integrity, unbiased, authentic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31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Evaluation of sources, kitemarking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31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Stay close to users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31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Advertising and marketing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31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3213000"/>
            <a:ext cx="7921800" cy="0"/>
          </a:xfrm>
          <a:prstGeom prst="line">
            <a:avLst/>
          </a:prstGeom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5013360"/>
            <a:ext cx="2519280" cy="108108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87" y="0"/>
                </a:lnTo>
                <a:lnTo>
                  <a:pt x="21600" y="10800"/>
                </a:lnTo>
                <a:lnTo>
                  <a:pt x="186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Operating at the fulcrum of the IP debate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3640" y="4797360"/>
            <a:ext cx="5040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131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Public interest test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31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Supporting creativity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31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Respecting rights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31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Plagiarism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3640" y="3357720"/>
            <a:ext cx="594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131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Translating our skills for the new environment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31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Specialist skills from across the sectors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31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Public/ private mix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3357720"/>
            <a:ext cx="2519280" cy="129528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87" y="0"/>
                </a:lnTo>
                <a:lnTo>
                  <a:pt x="21600" y="10800"/>
                </a:lnTo>
                <a:lnTo>
                  <a:pt x="186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Combining new skills with traditional librarian skills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4797360"/>
            <a:ext cx="7921440" cy="0"/>
          </a:xfrm>
          <a:prstGeom prst="line">
            <a:avLst/>
          </a:prstGeom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81C83-8290-422E-8BAA-CB79336BEA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1313"/>
                </a:solidFill>
                <a:latin typeface="Arial"/>
              </a:rPr>
              <a:t>4. Speak out on a wider stage </a:t>
            </a:r>
            <a:r>
              <a:rPr b="1" i="1" lang="en-US" sz="2800" spc="-1" strike="noStrike">
                <a:solidFill>
                  <a:srgbClr val="131313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2708280"/>
            <a:ext cx="7921440" cy="0"/>
          </a:xfrm>
          <a:prstGeom prst="line">
            <a:avLst/>
          </a:prstGeom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4221000"/>
            <a:ext cx="7921800" cy="0"/>
          </a:xfrm>
          <a:prstGeom prst="line">
            <a:avLst/>
          </a:prstGeom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1628640"/>
            <a:ext cx="2519640" cy="792360"/>
          </a:xfrm>
          <a:custGeom>
            <a:avLst/>
            <a:gdLst>
              <a:gd name="textAreaLeft" fmla="*/ 0 w 2519640"/>
              <a:gd name="textAreaRight" fmla="*/ 2520000 w 251964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87" y="0"/>
                </a:lnTo>
                <a:lnTo>
                  <a:pt x="21600" y="10800"/>
                </a:lnTo>
                <a:lnTo>
                  <a:pt x="186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The digital divide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1628640"/>
            <a:ext cx="540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131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An economic, social and political issue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31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nternational approach by LIS professionals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2997360"/>
            <a:ext cx="2519640" cy="936360"/>
          </a:xfrm>
          <a:custGeom>
            <a:avLst/>
            <a:gdLst>
              <a:gd name="textAreaLeft" fmla="*/ 0 w 2519640"/>
              <a:gd name="textAreaRight" fmla="*/ 2520000 w 25196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87" y="0"/>
                </a:lnTo>
                <a:lnTo>
                  <a:pt x="21600" y="10800"/>
                </a:lnTo>
                <a:lnTo>
                  <a:pt x="186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Boundaries and freedoms in an information world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48000" y="2852640"/>
            <a:ext cx="540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131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Freedom of expression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31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Freedom of information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31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UK Terrorism Bill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4653000"/>
            <a:ext cx="2519640" cy="936720"/>
          </a:xfrm>
          <a:custGeom>
            <a:avLst/>
            <a:gdLst>
              <a:gd name="textAreaLeft" fmla="*/ 0 w 2519640"/>
              <a:gd name="textAreaRight" fmla="*/ 2520000 w 25196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87" y="0"/>
                </a:lnTo>
                <a:lnTo>
                  <a:pt x="21600" y="10800"/>
                </a:lnTo>
                <a:lnTo>
                  <a:pt x="186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Cultural diplomacy and international support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48000" y="4581360"/>
            <a:ext cx="540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131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Memoranda of Understanding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1313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nternational co-operation</a:t>
            </a:r>
            <a:endParaRPr b="0" lang="en-US" sz="20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18DE-4968-4A04-8714-83CEA60A9D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31313"/>
                </a:solidFill>
                <a:latin typeface="Arial"/>
              </a:rPr>
              <a:t>Redefining the Library - conclusions</a:t>
            </a:r>
            <a:endParaRPr b="1" lang="en-US" sz="28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599"/>
              </a:spcBef>
              <a:buClr>
                <a:srgbClr val="13131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31313"/>
                </a:solidFill>
                <a:latin typeface="Arial"/>
              </a:rPr>
              <a:t>Know our users and keep close to them</a:t>
            </a:r>
            <a:endParaRPr b="0" lang="en-US" sz="2600" spc="-1" strike="noStrike">
              <a:solidFill>
                <a:srgbClr val="131313"/>
              </a:solidFill>
              <a:latin typeface="Arial"/>
            </a:endParaRPr>
          </a:p>
          <a:p>
            <a:pPr marL="419040" indent="-419040">
              <a:spcBef>
                <a:spcPts val="2599"/>
              </a:spcBef>
              <a:buClr>
                <a:srgbClr val="13131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31313"/>
                </a:solidFill>
                <a:latin typeface="Arial"/>
              </a:rPr>
              <a:t>Rethink the physical space to create a desirable ‘draw’</a:t>
            </a:r>
            <a:endParaRPr b="0" lang="en-US" sz="2600" spc="-1" strike="noStrike">
              <a:solidFill>
                <a:srgbClr val="131313"/>
              </a:solidFill>
              <a:latin typeface="Arial"/>
            </a:endParaRPr>
          </a:p>
          <a:p>
            <a:pPr marL="419040" indent="-419040">
              <a:spcBef>
                <a:spcPts val="2599"/>
              </a:spcBef>
              <a:buClr>
                <a:srgbClr val="13131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31313"/>
                </a:solidFill>
                <a:latin typeface="Arial"/>
              </a:rPr>
              <a:t>Embrace the new technologies and invest in digital technologies</a:t>
            </a:r>
            <a:endParaRPr b="0" lang="en-US" sz="2600" spc="-1" strike="noStrike">
              <a:solidFill>
                <a:srgbClr val="131313"/>
              </a:solidFill>
              <a:latin typeface="Arial"/>
            </a:endParaRPr>
          </a:p>
          <a:p>
            <a:pPr marL="419040" indent="-419040">
              <a:spcBef>
                <a:spcPts val="2599"/>
              </a:spcBef>
              <a:buClr>
                <a:srgbClr val="13131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31313"/>
                </a:solidFill>
                <a:latin typeface="Arial"/>
              </a:rPr>
              <a:t>Speak out on a wider stage</a:t>
            </a:r>
            <a:endParaRPr b="0" lang="en-US" sz="2600" spc="-1" strike="noStrike">
              <a:solidFill>
                <a:srgbClr val="131313"/>
              </a:solidFill>
              <a:latin typeface="Arial"/>
            </a:endParaRPr>
          </a:p>
          <a:p>
            <a:pPr marL="419040"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1313"/>
              </a:solidFill>
              <a:latin typeface="Arial"/>
            </a:endParaRPr>
          </a:p>
          <a:p>
            <a:pPr marL="419040"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3169-BCB4-44F1-91FA-A72CE3CF1C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0T12:03:56Z</dcterms:created>
  <dc:creator>Sarah Metcalfe</dc:creator>
  <dc:description/>
  <cp:keywords/>
  <dc:language>en-US</dc:language>
  <cp:lastModifiedBy>smetcalfe</cp:lastModifiedBy>
  <dcterms:modified xsi:type="dcterms:W3CDTF">2006-08-14T14:21:17Z</dcterms:modified>
  <cp:revision>9</cp:revision>
  <dc:subject/>
  <dc:title>Redefining the Library for the 21st century</dc:title>
</cp:coreProperties>
</file>