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E37-FC4B-449D-BF8A-BDDE3BD7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46C-801B-4604-AC02-785833E8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B23-E4BA-4F16-9DEB-0FA27BF5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ED4-64F7-4878-AA72-B80A9FE5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773-8DC9-46C5-9AD3-AD0D28C8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91A-25D5-48E2-AC73-2CC01900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9E7-D3B4-4B14-BF90-89D730A9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AC1-186B-4920-B5C7-9F1A2A6F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B3D-D408-4AD5-9BD6-390BFCFD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D06-D46A-4DD6-8CFB-9976FAB7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9FD-9DEC-4948-A5B7-14528908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3C8-F4DE-429A-BF19-5A0662A1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A006-9A9E-4A38-9840-E8BBCD703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371600"/>
            <a:ext cx="77724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nformation literacy for lifelong learning</a:t>
            </a:r>
            <a:br>
              <a:rPr sz="4700"/>
            </a:br>
            <a:br>
              <a:rPr sz="4700"/>
            </a:b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Abdelaziz Abid</a:t>
            </a:r>
            <a:br>
              <a:rPr sz="3200"/>
            </a:b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Information Society Division</a:t>
            </a:r>
            <a:r>
              <a:rPr b="1" lang="en-GB" sz="47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700"/>
            </a:br>
            <a:br>
              <a:rPr sz="4700"/>
            </a:br>
            <a:br>
              <a:rPr sz="4400"/>
            </a:br>
            <a:br>
              <a:rPr sz="4400"/>
            </a:b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rcRect l="0" t="0" r="0" b="4889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7696080" y="0"/>
              <a:ext cx="1447920" cy="2286000"/>
              <a:chOff x="7696080" y="0"/>
              <a:chExt cx="1447920" cy="228600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rcRect l="36667" t="17778" r="47501" b="48890"/>
              <a:stretch/>
            </p:blipFill>
            <p:spPr>
              <a:xfrm>
                <a:off x="7696080" y="0"/>
                <a:ext cx="144792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3"/>
              <a:srcRect l="84167" t="0" r="0" b="82224"/>
              <a:stretch/>
            </p:blipFill>
            <p:spPr>
              <a:xfrm>
                <a:off x="7696080" y="75960"/>
                <a:ext cx="1447920" cy="121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000066"/>
                </a:solidFill>
                <a:latin typeface="Times New Roman"/>
              </a:rPr>
              <a:t>Thematic Deb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nvited experts addressed four key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hat is Information Litera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hat are people’s nee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hat education programmes are needed to meet these nee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hat strategies and actions can UNESCO and IFAP impl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rcRect l="0" t="0" r="0" b="4889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7696080" y="0"/>
              <a:ext cx="1447920" cy="2286000"/>
              <a:chOff x="7696080" y="0"/>
              <a:chExt cx="1447920" cy="2286000"/>
            </a:xfrm>
          </p:grpSpPr>
          <p:pic>
            <p:nvPicPr>
              <p:cNvPr id="53" name="" descr=""/>
              <p:cNvPicPr/>
              <p:nvPr/>
            </p:nvPicPr>
            <p:blipFill>
              <a:blip r:embed="rId2"/>
              <a:srcRect l="36667" t="17778" r="47501" b="48890"/>
              <a:stretch/>
            </p:blipFill>
            <p:spPr>
              <a:xfrm>
                <a:off x="7696080" y="0"/>
                <a:ext cx="144792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3"/>
              <a:srcRect l="84167" t="0" r="0" b="82224"/>
              <a:stretch/>
            </p:blipFill>
            <p:spPr>
              <a:xfrm>
                <a:off x="7696080" y="75960"/>
                <a:ext cx="1447920" cy="121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5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000066"/>
                </a:solidFill>
                <a:latin typeface="Times New Roman"/>
              </a:rPr>
              <a:t>Information Lite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Bright"/>
              </a:rPr>
              <a:t>WSIS declared “common desire to build a people-centered, inclusive…  Information Society, where everyone can create, access, utilize and share information and knowledge…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8" name="" descr=""/>
            <p:cNvPicPr/>
            <p:nvPr/>
          </p:nvPicPr>
          <p:blipFill>
            <a:blip r:embed="rId1"/>
            <a:srcRect l="0" t="0" r="0" b="4889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" name=""/>
            <p:cNvGrpSpPr/>
            <p:nvPr/>
          </p:nvGrpSpPr>
          <p:grpSpPr>
            <a:xfrm>
              <a:off x="7696080" y="0"/>
              <a:ext cx="1447920" cy="2286000"/>
              <a:chOff x="7696080" y="0"/>
              <a:chExt cx="1447920" cy="2286000"/>
            </a:xfrm>
          </p:grpSpPr>
          <p:pic>
            <p:nvPicPr>
              <p:cNvPr id="60" name="" descr=""/>
              <p:cNvPicPr/>
              <p:nvPr/>
            </p:nvPicPr>
            <p:blipFill>
              <a:blip r:embed="rId2"/>
              <a:srcRect l="36667" t="17778" r="47501" b="48890"/>
              <a:stretch/>
            </p:blipFill>
            <p:spPr>
              <a:xfrm>
                <a:off x="7696080" y="0"/>
                <a:ext cx="144792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3"/>
              <a:srcRect l="84167" t="0" r="0" b="82224"/>
              <a:stretch/>
            </p:blipFill>
            <p:spPr>
              <a:xfrm>
                <a:off x="7696080" y="75960"/>
                <a:ext cx="1447920" cy="121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000066"/>
                </a:solidFill>
                <a:latin typeface="Times New Roman"/>
              </a:rPr>
              <a:t>What is Information Literac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Monotype Corsiva"/>
              </a:rPr>
              <a:t>The concept not well understood by Governments or societie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Monotype Corsiva"/>
              </a:rPr>
              <a:t>The term does not translate easily into French or other languages and this makes it difficult to promote at an international lev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rcRect l="0" t="0" r="0" b="4889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7696080" y="0"/>
              <a:ext cx="1447920" cy="2286000"/>
              <a:chOff x="7696080" y="0"/>
              <a:chExt cx="1447920" cy="2286000"/>
            </a:xfrm>
          </p:grpSpPr>
          <p:pic>
            <p:nvPicPr>
              <p:cNvPr id="67" name="" descr=""/>
              <p:cNvPicPr/>
              <p:nvPr/>
            </p:nvPicPr>
            <p:blipFill>
              <a:blip r:embed="rId2"/>
              <a:srcRect l="36667" t="17778" r="47501" b="48890"/>
              <a:stretch/>
            </p:blipFill>
            <p:spPr>
              <a:xfrm>
                <a:off x="7696080" y="0"/>
                <a:ext cx="144792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3"/>
              <a:srcRect l="84167" t="0" r="0" b="82224"/>
              <a:stretch/>
            </p:blipFill>
            <p:spPr>
              <a:xfrm>
                <a:off x="7696080" y="75960"/>
                <a:ext cx="1447920" cy="121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" name=""/>
          <p:cNvSpPr/>
          <p:nvPr/>
        </p:nvSpPr>
        <p:spPr>
          <a:xfrm>
            <a:off x="684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i="1" lang="en-GB" sz="3200" spc="-1" strike="noStrike">
                <a:solidFill>
                  <a:srgbClr val="000066"/>
                </a:solidFill>
                <a:latin typeface="Times New Roman"/>
              </a:rPr>
              <a:t>What is Information Literac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Monotype Corsiva"/>
              </a:rPr>
              <a:t>Of particular relevance in a digital world are the abilities to evaluate information critically and to create inform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Monotype Corsiva"/>
              </a:rPr>
              <a:t>The latest definition of Information Literacy, produced by CILIP (2004) is: “Information literacy is knowing when and why you need information, where to find it, and how to evaluate, use and communicate it in an ethical mann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" name="" descr=""/>
            <p:cNvPicPr/>
            <p:nvPr/>
          </p:nvPicPr>
          <p:blipFill>
            <a:blip r:embed="rId1"/>
            <a:srcRect l="0" t="0" r="0" b="4889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7696080" y="0"/>
              <a:ext cx="1447920" cy="2286000"/>
              <a:chOff x="7696080" y="0"/>
              <a:chExt cx="1447920" cy="2286000"/>
            </a:xfrm>
          </p:grpSpPr>
          <p:pic>
            <p:nvPicPr>
              <p:cNvPr id="74" name="" descr=""/>
              <p:cNvPicPr/>
              <p:nvPr/>
            </p:nvPicPr>
            <p:blipFill>
              <a:blip r:embed="rId2"/>
              <a:srcRect l="36667" t="17778" r="47501" b="48890"/>
              <a:stretch/>
            </p:blipFill>
            <p:spPr>
              <a:xfrm>
                <a:off x="7696080" y="0"/>
                <a:ext cx="144792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3"/>
              <a:srcRect l="84167" t="0" r="0" b="82224"/>
              <a:stretch/>
            </p:blipFill>
            <p:spPr>
              <a:xfrm>
                <a:off x="7696080" y="75960"/>
                <a:ext cx="1447920" cy="121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6" name=""/>
          <p:cNvSpPr/>
          <p:nvPr/>
        </p:nvSpPr>
        <p:spPr>
          <a:xfrm>
            <a:off x="971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</a:rPr>
              <a:t>What are People’s Nee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Monotype Corsiva"/>
              </a:rPr>
              <a:t>Information literacy- concern to  all sectors of socie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Monotype Corsiva"/>
              </a:rPr>
              <a:t>Developing countries need a more proactive role in determining solutions most appropriate to nee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Monotype Corsiva"/>
              </a:rPr>
              <a:t>The 2005 EFA Report revealed there are 799 million adult illiterates and 64% of these are wom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Monotype Corsiva"/>
              </a:rPr>
              <a:t>Information literacy enables people to access information about their health, their environment, their education and wor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Monotype Corsiva"/>
              </a:rPr>
              <a:t>People require ICT literacy to access digital information;  in information societies this is a necessary pre-condition for information lite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9" name="" descr=""/>
            <p:cNvPicPr/>
            <p:nvPr/>
          </p:nvPicPr>
          <p:blipFill>
            <a:blip r:embed="rId1"/>
            <a:srcRect l="0" t="0" r="0" b="4889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" name=""/>
            <p:cNvGrpSpPr/>
            <p:nvPr/>
          </p:nvGrpSpPr>
          <p:grpSpPr>
            <a:xfrm>
              <a:off x="7696080" y="0"/>
              <a:ext cx="1447920" cy="2286000"/>
              <a:chOff x="7696080" y="0"/>
              <a:chExt cx="1447920" cy="2286000"/>
            </a:xfrm>
          </p:grpSpPr>
          <p:pic>
            <p:nvPicPr>
              <p:cNvPr id="81" name="" descr=""/>
              <p:cNvPicPr/>
              <p:nvPr/>
            </p:nvPicPr>
            <p:blipFill>
              <a:blip r:embed="rId2"/>
              <a:srcRect l="36667" t="17778" r="47501" b="48890"/>
              <a:stretch/>
            </p:blipFill>
            <p:spPr>
              <a:xfrm>
                <a:off x="7696080" y="0"/>
                <a:ext cx="144792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3"/>
              <a:srcRect l="84167" t="0" r="0" b="82224"/>
              <a:stretch/>
            </p:blipFill>
            <p:spPr>
              <a:xfrm>
                <a:off x="7696080" y="75960"/>
                <a:ext cx="1447920" cy="121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" name=""/>
          <p:cNvSpPr/>
          <p:nvPr/>
        </p:nvSpPr>
        <p:spPr>
          <a:xfrm>
            <a:off x="971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What Education Programmes are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NZ" sz="3200" spc="-1" strike="noStrike">
                <a:solidFill>
                  <a:srgbClr val="000000"/>
                </a:solidFill>
                <a:latin typeface="Monotype Corsiva"/>
              </a:rPr>
              <a:t>Migration from “unconscious incompetent” to “conscious incompetent” and only then to “conscious competent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Monotype Corsiva"/>
              </a:rPr>
              <a:t>An Information Literacy curriculum (at all levels) accepted by Governments and education administrator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Monotype Corsiva"/>
              </a:rPr>
              <a:t>Educationalists to change focus from information </a:t>
            </a: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Monotype Corsiva"/>
              </a:rPr>
              <a:t>technologies</a:t>
            </a:r>
            <a:r>
              <a:rPr b="0" i="1" lang="en-NZ" sz="3200" spc="-1" strike="noStrike">
                <a:solidFill>
                  <a:srgbClr val="000000"/>
                </a:solidFill>
                <a:latin typeface="Monotype Corsiva"/>
              </a:rPr>
              <a:t> to informa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6" name="" descr=""/>
            <p:cNvPicPr/>
            <p:nvPr/>
          </p:nvPicPr>
          <p:blipFill>
            <a:blip r:embed="rId1"/>
            <a:srcRect l="0" t="0" r="0" b="4889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7696080" y="0"/>
              <a:ext cx="1447920" cy="2286000"/>
              <a:chOff x="7696080" y="0"/>
              <a:chExt cx="1447920" cy="2286000"/>
            </a:xfrm>
          </p:grpSpPr>
          <p:pic>
            <p:nvPicPr>
              <p:cNvPr id="88" name="" descr=""/>
              <p:cNvPicPr/>
              <p:nvPr/>
            </p:nvPicPr>
            <p:blipFill>
              <a:blip r:embed="rId2"/>
              <a:srcRect l="36667" t="17778" r="47501" b="48890"/>
              <a:stretch/>
            </p:blipFill>
            <p:spPr>
              <a:xfrm>
                <a:off x="7696080" y="0"/>
                <a:ext cx="144792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3"/>
              <a:srcRect l="84167" t="0" r="0" b="82224"/>
              <a:stretch/>
            </p:blipFill>
            <p:spPr>
              <a:xfrm>
                <a:off x="7696080" y="75960"/>
                <a:ext cx="1447920" cy="121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" name=""/>
          <p:cNvSpPr/>
          <p:nvPr/>
        </p:nvSpPr>
        <p:spPr>
          <a:xfrm>
            <a:off x="97164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What Education Programmes are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en-NZ" sz="3200" spc="-1" strike="noStrike">
                <a:solidFill>
                  <a:srgbClr val="000000"/>
                </a:solidFill>
                <a:latin typeface="Monotype Corsiva"/>
              </a:rPr>
              <a:t>Teachers are a barrier in creating more information literate students and therefore education programmes must be directed at them in the first instanc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Monotype Corsiva"/>
              </a:rPr>
              <a:t>Opportunity for information literacy to become a cornerstone in programmes developed as part of the United Nations’ Decade for Literacy, especially for women and out-of-school gir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0" r="0" b="4889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"/>
            <p:cNvGrpSpPr/>
            <p:nvPr/>
          </p:nvGrpSpPr>
          <p:grpSpPr>
            <a:xfrm>
              <a:off x="7696080" y="0"/>
              <a:ext cx="1447920" cy="2286000"/>
              <a:chOff x="7696080" y="0"/>
              <a:chExt cx="1447920" cy="2286000"/>
            </a:xfrm>
          </p:grpSpPr>
          <p:pic>
            <p:nvPicPr>
              <p:cNvPr id="95" name="" descr=""/>
              <p:cNvPicPr/>
              <p:nvPr/>
            </p:nvPicPr>
            <p:blipFill>
              <a:blip r:embed="rId2"/>
              <a:srcRect l="36667" t="17778" r="47501" b="48890"/>
              <a:stretch/>
            </p:blipFill>
            <p:spPr>
              <a:xfrm>
                <a:off x="7696080" y="0"/>
                <a:ext cx="144792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3"/>
              <a:srcRect l="84167" t="0" r="0" b="82224"/>
              <a:stretch/>
            </p:blipFill>
            <p:spPr>
              <a:xfrm>
                <a:off x="7696080" y="75960"/>
                <a:ext cx="1447920" cy="121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7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Develop international </a:t>
            </a:r>
            <a:r>
              <a:rPr b="1" lang="en-GB" sz="3200" spc="-1" strike="noStrike">
                <a:solidFill>
                  <a:srgbClr val="000000"/>
                </a:solidFill>
                <a:latin typeface="Monotype Corsiva"/>
              </a:rPr>
              <a:t>policy guideli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Support curriculum development and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d</a:t>
            </a:r>
            <a:r>
              <a:rPr b="1" lang="en-GB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istance learning</a:t>
            </a:r>
            <a:r>
              <a:rPr b="0" lang="en-GB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initiatives- </a:t>
            </a:r>
            <a:r>
              <a:rPr b="0" lang="en-GB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training in IL should be included in initial and in-service training programmes as part of </a:t>
            </a:r>
            <a:r>
              <a:rPr b="1" lang="en-GB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teachers</a:t>
            </a:r>
            <a:r>
              <a:rPr b="0" lang="en-GB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’ ongoing professional develop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Monotype Corsiva"/>
              </a:rPr>
              <a:t>Promote models </a:t>
            </a:r>
            <a:r>
              <a:rPr b="0" lang="en-GB" sz="2800" spc="-1" strike="noStrike">
                <a:solidFill>
                  <a:srgbClr val="000000"/>
                </a:solidFill>
                <a:latin typeface="Monotype Corsiva"/>
              </a:rPr>
              <a:t>of best practice that can assist in the adoption of information literacy ski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Support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exchange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of experiences and professional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8:16:40Z</dcterms:created>
  <dc:creator>Vany</dc:creator>
  <dc:description/>
  <dc:language>en-US</dc:language>
  <cp:lastModifiedBy>Vany</cp:lastModifiedBy>
  <dcterms:modified xsi:type="dcterms:W3CDTF">2005-08-24T18:17:45Z</dcterms:modified>
  <cp:revision>2</cp:revision>
  <dc:subject/>
  <dc:title>Apresentação do PowerPoint</dc:title>
</cp:coreProperties>
</file>